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DFFE-CC29-4480-9576-47ACC46D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BCD-ED85-4DA1-91D3-3846F5AD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917-A23F-4771-8E39-43DD10AD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3DF-67E2-4EB8-84EF-CBC38400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00A1-9BB1-4E5F-AD38-CB8D0C10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A13C-D3DF-44BB-84C1-AEE4DBE4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2F7-7423-4841-8F4A-056687A4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2C9-32CC-4CB2-B0CB-4F08CC53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6254-7DA0-47CE-B548-4198133B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D6BF-C74E-4B84-822A-CC4BE6AA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0F2B-AA4A-4774-95BD-8E0171D8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D93-FE38-49C2-8BC3-11E7A982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453C-FB46-45BF-B25E-25E96C59C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xtended Essay</a:t>
            </a:r>
            <a:br>
              <a:rPr sz="6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for May,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ve Sm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mple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 am still not clear what you mean on page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You used xxx source quite a bit.  What made it so worthwhile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have been the high and low points of this process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was most interesting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have you learned through this work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Q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t?      A 4,000 word, independently done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in-depth study in an IB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does it?   Full diploma candi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End of jr yr/summer/beginning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sr yr.  Approximately 40 hrs of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Because it’s fun, and, along wi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theory of knowledge, can earn 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bonus pts towards the diplo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ervisor’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sponsibilit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a suitable 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ting a precise research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ing and supporting student throughout the research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ing advice and guidance in the skills of doing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the progress of the extended essay and ensuring it is student’s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ervisor’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sponsibilit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ising on document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ing an abstract, purpose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nd commenting on the first draft, but not 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ing a grade for the extended es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ing the supervisor’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5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must an EE h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647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 of 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body, with sub-hea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ing in a consistent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abstra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s the research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s how the research was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s the 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 words or 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Suggestions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duce Better Pap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context and worthiness of RQ in i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RQ is near the end of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paper into subheadings by t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uthors’ names in 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the worthiness of auth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rimary and secondary sources, and a variety of types of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nalytical, not just descrip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are points lo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    no research ques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     no conclu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exceeds 4,000 wo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-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o TOC, no bib, no ref, not #    -2 or -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o abstract, or exceeds 300 wds    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missing a component of abstract   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va vo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short interview between student and teach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check on plagiarism and malpract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opportunity to reflect on the process and on what has been learn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id to the supervisor’s report, especially criterion K, the holistic judg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last 10-15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01:57:03Z</dcterms:created>
  <dc:creator>hipi</dc:creator>
  <dc:description/>
  <dc:language>en-US</dc:language>
  <cp:lastModifiedBy>usd500 kckps</cp:lastModifiedBy>
  <dcterms:modified xsi:type="dcterms:W3CDTF">2010-11-05T02:39:04Z</dcterms:modified>
  <cp:revision>8</cp:revision>
  <dc:subject/>
  <dc:title>Extended Essay</dc:title>
</cp:coreProperties>
</file>